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AE9-A765-41D1-9ACC-C149CF63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0AC-300E-492E-94B7-B352138D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CE0-2524-4FC3-AC20-AF01E2B4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B72-1C74-471E-80A6-D008C3A5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87C-CCBD-43BF-9E43-BFC4ABB9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A527-C188-4F40-B8B4-B3F724BB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CE32-4A08-415D-ADF2-D8CB667F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B2B7-EAA9-4DA8-9B26-C670C20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5BA-8B89-4169-84B0-7CA11991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91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7632-98EA-4264-A304-17F20C8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C666-2E26-4C66-AFE1-257C0923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DEA-F5A5-4287-ACE4-568D6990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2D86-8A8E-4C0A-B4CE-EDC7632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5090-2F57-4155-9C1A-251D0A7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2F15-BAB6-4C15-A89B-02003E3B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A7AB-A9B8-4A27-B1A5-801A03BE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6491-6283-45D0-A70B-2DD611B0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534-86C2-4A7F-9529-E070E6F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9D4-8432-4467-A87E-EBB49A81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492-20E1-42E1-8B49-C7E9BD42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91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58E-3369-4CF0-B0D3-9EDE0958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DA4-33C3-4F21-8F66-6DB16A5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96F-696C-462E-8233-EEF61730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2A5-4F5A-4918-93DD-89363AF2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B07-858E-49FD-8837-11107A62C467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9AF4-EC5C-4B2A-9663-7DBE14913DC9}" type="slidenum">
              <a:rPr b="0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8.gif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pizza"/>
          <p:cNvPicPr/>
          <p:nvPr/>
        </p:nvPicPr>
        <p:blipFill>
          <a:blip r:embed="rId1"/>
          <a:stretch/>
        </p:blipFill>
        <p:spPr>
          <a:xfrm>
            <a:off x="1752480" y="762120"/>
            <a:ext cx="572472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Comic Sans MS"/>
              </a:rPr>
              <a:t>Junk Food For Though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have 5 seconds to answer this: Your question goes he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60" descr="burger_jump_lg_clr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2" descr="salt_shaker_chasing_french_fries_hg_clr"/>
          <p:cNvPicPr/>
          <p:nvPr/>
        </p:nvPicPr>
        <p:blipFill>
          <a:blip r:embed="rId2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4" descr="hotdog"/>
          <p:cNvPicPr/>
          <p:nvPr/>
        </p:nvPicPr>
        <p:blipFill>
          <a:blip r:embed="rId3"/>
          <a:stretch/>
        </p:blipFill>
        <p:spPr>
          <a:xfrm>
            <a:off x="4572000" y="1676520"/>
            <a:ext cx="388152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Under_the_Sea.mid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5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4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3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2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1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et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 get Started Feeding Your Mind!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Picture 252" descr="burger_jump_lg_clr"/>
          <p:cNvPicPr/>
          <p:nvPr/>
        </p:nvPicPr>
        <p:blipFill>
          <a:blip r:embed="rId1"/>
          <a:stretch/>
        </p:blipFill>
        <p:spPr>
          <a:xfrm>
            <a:off x="533520" y="44956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3" descr="hotdog"/>
          <p:cNvPicPr/>
          <p:nvPr/>
        </p:nvPicPr>
        <p:blipFill>
          <a:blip r:embed="rId2"/>
          <a:stretch/>
        </p:blipFill>
        <p:spPr>
          <a:xfrm>
            <a:off x="1371600" y="5257800"/>
            <a:ext cx="3881520" cy="126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4" descr="microwave_open_hg_clr"/>
          <p:cNvPicPr/>
          <p:nvPr/>
        </p:nvPicPr>
        <p:blipFill>
          <a:blip r:embed="rId3"/>
          <a:stretch/>
        </p:blipFill>
        <p:spPr>
          <a:xfrm>
            <a:off x="4495680" y="2133720"/>
            <a:ext cx="1422360" cy="904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5" descr="pizza"/>
          <p:cNvPicPr/>
          <p:nvPr/>
        </p:nvPicPr>
        <p:blipFill>
          <a:blip r:embed="rId4"/>
          <a:stretch/>
        </p:blipFill>
        <p:spPr>
          <a:xfrm>
            <a:off x="6019920" y="3429000"/>
            <a:ext cx="286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6" descr="Pizza_being_cut_hg_clr"/>
          <p:cNvPicPr/>
          <p:nvPr/>
        </p:nvPicPr>
        <p:blipFill>
          <a:blip r:embed="rId5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7" descr="pizza_boy_showing_pizza_hg_clr"/>
          <p:cNvPicPr/>
          <p:nvPr/>
        </p:nvPicPr>
        <p:blipFill>
          <a:blip r:embed="rId6"/>
          <a:stretch/>
        </p:blipFill>
        <p:spPr>
          <a:xfrm>
            <a:off x="7772400" y="2209680"/>
            <a:ext cx="961920" cy="12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8" descr="pizza_serving_a_slice_hg_clr"/>
          <p:cNvPicPr/>
          <p:nvPr/>
        </p:nvPicPr>
        <p:blipFill>
          <a:blip r:embed="rId7"/>
          <a:stretch/>
        </p:blipFill>
        <p:spPr>
          <a:xfrm>
            <a:off x="4876920" y="327672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9" descr="pretzel"/>
          <p:cNvPicPr/>
          <p:nvPr/>
        </p:nvPicPr>
        <p:blipFill>
          <a:blip r:embed="rId8"/>
          <a:stretch/>
        </p:blipFill>
        <p:spPr>
          <a:xfrm>
            <a:off x="533520" y="1828800"/>
            <a:ext cx="2819160" cy="261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0" descr="salt_shaker_chasing_french_fries_hg_clr"/>
          <p:cNvPicPr/>
          <p:nvPr/>
        </p:nvPicPr>
        <p:blipFill>
          <a:blip r:embed="rId9"/>
          <a:stretch/>
        </p:blipFill>
        <p:spPr>
          <a:xfrm>
            <a:off x="3429000" y="3048120"/>
            <a:ext cx="1138320" cy="1137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54:38Z</dcterms:created>
  <dc:creator>cmassengale</dc:creator>
  <dc:description/>
  <dc:language>en-US</dc:language>
  <cp:lastModifiedBy>Microsoft Office User</cp:lastModifiedBy>
  <dcterms:modified xsi:type="dcterms:W3CDTF">2011-09-17T09:37:59Z</dcterms:modified>
  <cp:revision>4</cp:revision>
  <dc:subject/>
  <dc:title>Junk Food For Thought</dc:title>
</cp:coreProperties>
</file>